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EB0-CF7A-4BC2-B190-0485E5BA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817-4D56-419C-BBB5-36CDBBAD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380-11AB-4BA2-97BC-C1A90C07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330-0DC2-4D77-B27B-458CE95C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88D-9A52-4ECD-822D-A2A72902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55A-9C38-4B2B-AA7B-14350EF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239B-2C15-4730-A1E2-637D098A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21BB-7982-43B7-8C41-46F0DA0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EC5-82F1-4C11-BC37-0D66CAF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7478-5BC5-45E5-9FC8-C62C3C91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8607-F733-46F2-92B8-B2FBD74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108-6BDD-41A3-8557-DF22B9D5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7C1A-0E1F-455D-8424-0444B8D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73C1-985E-4371-9CE2-3395FCF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B60-469B-41BF-B482-9337F993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0D3-163E-4E7F-8AF2-82025F08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CF4-FED2-43CB-A91C-DBC8CADE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176B-65E0-4514-83F7-958B5CEE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9E37-0EBE-4355-A842-C292347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4148-8821-45AD-AC44-10B10DF7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39E2-E873-4429-9009-5DED85B5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7090-5D7A-427D-8EC8-19C5EAF7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1D9-9F39-4E81-9813-5FC6B3D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7417-3752-4076-B9FF-322784FC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F723-8D6B-44AD-8574-68FE024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755F-E318-44A7-9809-11B9743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FC9F-B55C-4667-8784-C108B07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4567-5BFA-49E2-9C32-B0F594F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0C2F-C6B6-4004-8DDA-B75CCA8F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B398-C80A-4DB7-8227-60504F6F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F708-5CE9-466A-A30A-461BEC7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E541-83DE-4339-842E-F2C4483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501E-6977-44BF-87E8-51DDF8F4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70F-FAF7-46D4-8C50-F89A26A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EE4A-9BDF-47F3-B6AC-5302A1D7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E542-3966-40B9-8A17-7CD33B7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8110-4CC4-4C10-8426-C21C776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3952-0040-491C-BFB6-749B17C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B6C7-C6F6-4083-A6B7-73AD62C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EF21-C7ED-48FA-BFCC-DB3AE50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28E6-2084-4EF4-A945-181561F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5C21-4A92-4BF7-9E05-DA6FF17D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9561-B312-447C-B42F-3469F3F6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9A9B2-E1DF-44B2-9AB9-AC907092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523-EE78-4A33-A393-677C7CAC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9169-BA44-447F-9500-A186B32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B53C-FB2E-411A-A151-CF9589C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6C83-E4D1-458E-877B-0F04BBB5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C316-E72C-465B-9416-DD95924C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4EED-35AE-4C1F-B879-917677C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23D2-C7B1-4E06-89DB-CE50D18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E5810-6C96-4A29-BD18-57BD78E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2409-3CA1-4A09-BBFF-FAFFEEA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5506-2014-499C-93C0-10371489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9EFC-E7C9-4839-BCFF-40D89026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28E-F4DE-4D9E-A635-BEF4702A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8377-56FB-475A-A7E0-FF0C2E09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6A7-D17D-436D-A295-7F6FA57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714-4322-411D-8386-BF299E2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C22-370B-4532-9ACF-431A399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7D6A-861B-448C-8791-A7CBF3FC0E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08F-81E1-4759-A05E-03337D5700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4AC-5B28-42AD-A67C-E8421DF42A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91A-2287-456B-BC39-1AA2F2150C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0EB5-CD90-44A4-A0F7-BB7C0DDCD5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By Robert Fro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Road Not Taken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Quick Write: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a list of all the decisions you have to make on a daily basis, no matter how minor. Then list what sorts of things influence you when you make those decisi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are your list with the person next to you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the meter and rhyme scheme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heard a fly buzz when I died;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illness round my form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s like the stillness in the air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tween the heaves of storm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eter is iam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iambic meter is a poetic foot made up of an unstressed syllable followed by a stressed sylla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hear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f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buzz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di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;  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s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m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a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lik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til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ss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c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wee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heav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Perpetua"/>
              </a:rPr>
              <a:t>stor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The Road Not Taken </a:t>
            </a:r>
            <a:br>
              <a:rPr sz="3600"/>
            </a:br>
            <a:r>
              <a:rPr b="0" lang="en-US" sz="2800" spc="-1" strike="noStrike">
                <a:solidFill>
                  <a:srgbClr val="676a55"/>
                </a:solidFill>
                <a:latin typeface="Franklin Gothic Book"/>
              </a:rPr>
              <a:t>By Robert Frost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wo roads diverged in a yellow wood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sorry I could not travel both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be one traveler, long I stood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looked down one as far as I could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o where it bent in the undergrowth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n took the other, as just as fair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having perhaps the better claim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cause it was grassy and wanted wear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ough as for that the passing the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Had worn them really about the same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both that morning equally lay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n leaves no step had trodden black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Oh, I kept the first for another day!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Yet knowing how way leads on to way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doubted if I should ever come back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shall be telling this with a sigh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omewhere ages and ages hence: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wo roads diverged in a wood, and I--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 took the one less traveled by,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And that has made all the difference.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Second read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literal meaning of the po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 the rhyme sche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the poem to yourself and underline three words which connote (show) emotion and identify any symbolism in the poe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metaphorical meaning of the poem? What connection can you make between the qualities of a lyrical poem and the theme of the po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39:27Z</dcterms:created>
  <dc:creator>116393</dc:creator>
  <dc:description/>
  <dc:language>en-US</dc:language>
  <cp:lastModifiedBy>Siracusa Brittani</cp:lastModifiedBy>
  <dcterms:modified xsi:type="dcterms:W3CDTF">2014-04-16T14:03:41Z</dcterms:modified>
  <cp:revision>4</cp:revision>
  <dc:subject/>
  <dc:title>The Road Not Taken</dc:title>
</cp:coreProperties>
</file>